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214-F803-486E-A137-DEFF89EE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BB3-FAFF-4EBD-9286-6E77FD38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310-103C-495B-B6E7-71302B35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991-5705-4B5D-B3F4-11AAF33A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557-9CFA-4A77-B2E6-01F52A2F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BB1-8F58-47F7-B094-F1C0CC96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999-D40F-43EC-8989-8762EAE3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420-7BA5-416F-931F-919EAA21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246-B2F6-4AE3-977E-9EAFD1D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0BB-5305-4104-BFA3-740D904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2D3-0D5F-4B83-8843-D26CB586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5CB-EBCD-444F-86E6-2115109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514-816E-4B75-9FBB-088ED29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ACB-AB6B-4236-B198-C27A7AE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9D07-0FF7-4E37-A684-0FA176C3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o momento, a permissão para esta apresentação está restrita. Ela só pode ser aberta usando o Microsoft Office 2003 ou posterior. Você pode solicitar ao autor da apresentação o envio de uma cópia que possa ser lida usando o Complemento do Rights Management para o Internen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6-11-18T02:26:21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